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4.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8F4D4-6536-454A-884D-16E58B8D80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hyperlink" Target="http://www.china.org.cn/english/features/EthnicGroups/136914.htm" TargetMode="External"/><Relationship Id="rId2" Type="http://schemas.openxmlformats.org/officeDocument/2006/relationships/hyperlink" Target="http://www.china.org.cn/english/features/EthnicGroups/136914.htm" TargetMode="External"/><Relationship Id="rId3" Type="http://schemas.openxmlformats.org/officeDocument/2006/relationships/slide" Target="../slides/slide10.xml"/><Relationship Id="rId4"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maps-of-china.com/china-globe.s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www.china.org.cn/english/travel/167248.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gnificent Terr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uanyang County is world famous for its </a:t>
            </a:r>
            <a:r>
              <a:rPr b="0" lang="en-US" sz="1200" spc="-1" strike="noStrike" u="sng">
                <a:solidFill>
                  <a:srgbClr val="009999"/>
                </a:solidFill>
                <a:uFillTx/>
                <a:latin typeface="Arial"/>
                <a:hlinkClick r:id="rId1"/>
              </a:rPr>
              <a:t>Hani</a:t>
            </a:r>
            <a:r>
              <a:rPr b="0" lang="en-US" sz="1200" spc="-1" strike="noStrike" u="sng">
                <a:solidFill>
                  <a:srgbClr val="009999"/>
                </a:solidFill>
                <a:uFillTx/>
                <a:latin typeface="Arial"/>
                <a:hlinkClick r:id="rId2"/>
              </a:rPr>
              <a:t> </a:t>
            </a:r>
            <a:r>
              <a:rPr b="0" lang="en-US" sz="1200" spc="-1" strike="noStrike">
                <a:solidFill>
                  <a:srgbClr val="000000"/>
                </a:solidFill>
                <a:latin typeface="Arial"/>
              </a:rPr>
              <a:t>ethnic minority-constructed farming terraces that zigzag upwards over range upon range of slopes to a height of 144 to 2,000 meters. As the Hani people say, they can build and water terraces on any mountain, no matter how 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icials from the county tourism bureau recall proudly the many overseas researchers and visitors that have come to see the terraces. One official commented, "Most tourists cannot believe that the Hani people cultivate terraces using only simple hoes. They regard them as every bit as splendid as the Great Wall and the Pyram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races have a 1,300-year history, and in that time Hani farmers have perfected a rice terrace-oriented farming and seeding ecosystem. For the past 50 years, the terraces have produced between 100 to 150 kilograms, sometimes as much as 300 kilograms, of rice per Mu (a sixth of an acre), an output that compares with that of any plains area. Incredibly enough, Yuanyang, with its high mountains and steep valleys and forests, is actually a huge granary in </a:t>
            </a:r>
            <a:r>
              <a:rPr b="1" lang="en-US" sz="1200" spc="-1" strike="noStrike">
                <a:solidFill>
                  <a:srgbClr val="000000"/>
                </a:solidFill>
                <a:latin typeface="Arial"/>
              </a:rPr>
              <a:t>Yunnan Province</a:t>
            </a:r>
            <a:r>
              <a:rPr b="0" lang="en-US" sz="1200" spc="-1" strike="noStrike">
                <a:solidFill>
                  <a:srgbClr val="000000"/>
                </a:solidFill>
                <a:latin typeface="Arial"/>
              </a:rPr>
              <a:t> that was relied on heavily in the 1960s and 1970s to alleviate famine in the inland are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ani terraces and their irrigation system constitute ingenious agricultural innovation. Ailao Mountain's temperate climate and large scope of vegetation assures precipitation adequate to water the terraces, but equal apportionment of water to each plot on each terrace requires specialized skill. The Hani people call their method of water management, "Carving Wood to Ration Water"; villagers from each household mark different gradations on a wooden cross and place it in front of the terrace's source of water. When water flowing into the terraces reaches a specific gradation, the flow ceases. This system ensures enough water for every terraced pl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 Junchao, who has spent many years on research into Hani Culture, says, "As the Hani people rely on the terraces for their subsistence, there has evolved a terrace "culture," apparent in folk customs such as the Name Giving Ceremony. When a baby boy is born, a field plowing ceremony is held, whereby make-believe terraces are drawn on the courtyard floor and a seven-or eight-year-old boy apes the hoeing process. If the infant is a girl, a seven-or eight-year-old girl mimes field work with a basket on her back. It is after the ceremony that the infant is given a name and declared a true member of the village. When someone passes away, he or she is buried on the slope beside the terrace to guard it from the nether world.</a:t>
            </a:r>
            <a:br>
              <a:rPr sz="1200"/>
            </a:b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nese Theatre – Beijing Op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00 CE and specifically in the 1800s: song dance and martial arts (combat is symbolic more than realis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chinese history and folklore – ignored the communist plays that were written for social valu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nese Labor in the West: http://www.apa.si.edu/ongoldmountain/gallery2/gallery2.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en.wikipedia.org/wiki/Chinese_immigration_to_the_United_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90,000 arrived between 1849-18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82 Chinese Exclusion 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d 1/3 less than whites because wouldn’t pay room and 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es on foreign miners – almost exclusively Chines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tical Cartoon against Chinese Immigrant Labor venturing into/taking over American industries.  Painstaking coverage of land claims resulted in gold finds and profits passed on by whites. See the idle white labor and jails in the di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content.cdlib.org/ark:/13030/hb938nb33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nese Labor in the West: http://www.apa.si.edu/ongoldmountain/gallery2/gallery2.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en.wikipedia.org/wiki/Chinese_immigration_to_the_United_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90,000 arrived between 1849-18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82 Chinese Exclusion 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d 1/3 less than whites because wouldn’t pay room and 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es on foreign miners – almost exclusively Chine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businessweek.com/magazine/content/04_49/b3911401.htm </a:t>
            </a:r>
            <a:endParaRPr b="0" lang="en-US" sz="12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ttp://www.businessweek.com/magazine/content/04_49/b3911401.htm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China Price 30-50% less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ee special report (also toys, dog food, toothpaste, etc. furnitur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5+Billion in computer hardware and nearly $25 in electronics, machinery</a:t>
            </a:r>
            <a:endParaRPr b="0" lang="en-US" sz="7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ensus.gov/foreign-trade/balance/c5700.html#20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bidden City (Beijing from Ming Dynasty) with Mao’s portra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tudyrussian.com/MGU/China/forbidden-city1.jpg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nytimes.com/2007/08/26/world/asia/26china.html</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en.wikipedia.org/wiki/Economy_of_the_People's_Republic_of_Chi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nn.com/2007/TECH/science/06/04/china.environment/ Chinese pollu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ng’an Temple – built on site of Buddhist temple from 247 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nghai – China – world’s busiest port, 8</a:t>
            </a:r>
            <a:r>
              <a:rPr b="0" lang="en-US" sz="1200" spc="-1" strike="noStrike" baseline="30000">
                <a:solidFill>
                  <a:srgbClr val="000000"/>
                </a:solidFill>
                <a:latin typeface="Arial"/>
              </a:rPr>
              <a:t>th</a:t>
            </a:r>
            <a:r>
              <a:rPr b="0" lang="en-US" sz="1200" spc="-1" strike="noStrike">
                <a:solidFill>
                  <a:srgbClr val="000000"/>
                </a:solidFill>
                <a:latin typeface="Arial"/>
              </a:rPr>
              <a:t> largest city and China’s largest – Cul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rn advertising, ligh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en.wikipedia.org/wiki/Jing%27an_Te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nzo is US made perfume and women’s skin care company global trade/interdependenc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3.nationalgeographic.com/places/images/lw/china_great-wall-jinshanling.jp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en.wikipedia.org/wiki/Great_Wall_of_Chin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hinatravel.com/china-travel-guides/china-attractions/china-top/the-great-wall-of-china.shtml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rts.ualberta.ca/~jwilliam/baowebsite/family%20planning%20big.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msnbc.msn.com/id/5953508 116-120 boys to girls ratio and 40 million more men than w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o reverse this family – societal tren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D717D7-A875-470F-8967-18E0DA466D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765088-ACAE-40DF-8BBB-472E1B80E9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E89A96-3609-47E5-952E-CFF4AAE57E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8DE8FC-D1DE-48D5-BF2C-908C745A4D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C602ED-CB26-4783-AF4A-9749213A0D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8C5424-FD43-4691-95F6-A4420B9DC6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B41F20-F455-45B4-AABF-0C1BA22646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EF8D37-865C-46E6-8BB4-20F7C4176F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623B5F-0ED0-4A9E-A908-D6997071CA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6A661-3BF1-426D-AE15-A1D882E6E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AA9B2-B4DB-425B-A518-E241DF599F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6FB2F-8E10-4C2E-AC3C-C2F0D7C5B8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66020-EB8E-4A5F-BCA1-88EA4EF1B9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274320"/>
            <a:ext cx="91440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 to China In East Asia</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asia_ref802643_99.jpg (106555 bytes)"/>
          <p:cNvPicPr/>
          <p:nvPr/>
        </p:nvPicPr>
        <p:blipFill>
          <a:blip r:embed="rId1"/>
          <a:stretch/>
        </p:blipFill>
        <p:spPr>
          <a:xfrm>
            <a:off x="1600200" y="838080"/>
            <a:ext cx="6019920" cy="5889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3" name="" descr=""/>
          <p:cNvPicPr/>
          <p:nvPr/>
        </p:nvPicPr>
        <p:blipFill>
          <a:blip r:embed="rId1"/>
          <a:srcRect l="0" t="21000" r="0" b="0"/>
          <a:stretch/>
        </p:blipFill>
        <p:spPr>
          <a:xfrm>
            <a:off x="0" y="228600"/>
            <a:ext cx="10744200" cy="6367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rrace/Irrigation Farming</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arly 4,000 lbs per ac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8" name="" descr="Image:Beijing-Opera2.jpg"/>
          <p:cNvPicPr/>
          <p:nvPr/>
        </p:nvPicPr>
        <p:blipFill>
          <a:blip r:embed="rId1"/>
          <a:stretch/>
        </p:blipFill>
        <p:spPr>
          <a:xfrm>
            <a:off x="914400" y="762120"/>
            <a:ext cx="3800520" cy="5705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ijing Opera</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ditional Theater from 700 C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nce, song, and martial arts based on history and folk stor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3" name="" descr="Chinese workers building the Loma Prieta Lumber Co.'s railroad, California, about 1885"/>
          <p:cNvPicPr/>
          <p:nvPr/>
        </p:nvPicPr>
        <p:blipFill>
          <a:blip r:embed="rId1"/>
          <a:stretch/>
        </p:blipFill>
        <p:spPr>
          <a:xfrm>
            <a:off x="304920" y="304920"/>
            <a:ext cx="7543800" cy="5452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inese Immigration to the USA</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tween 1849-82 nearly 300,000 Chinese came to the US and built the Transcontinental/California Railroa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8" name="" descr="Larger Image"/>
          <p:cNvPicPr/>
          <p:nvPr/>
        </p:nvPicPr>
        <p:blipFill>
          <a:blip r:embed="rId1"/>
          <a:stretch/>
        </p:blipFill>
        <p:spPr>
          <a:xfrm>
            <a:off x="304920" y="152280"/>
            <a:ext cx="9144000" cy="6880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882 Chinese Exclusion Act</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Don’t Copy&gt;</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it enacted, That from and after the expiration of ninety days next after the passage of this act, and until the expiration of ten years next after the passage of this act, the coming of Chinese laborers to the Untied States be, . . . suspended; and during such suspension it shall not be lawful for any Chinese laborer to come, or, having so come after the expiration of said ninety days, to remain within the United Sta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3" name="" descr="Tech Worker"/>
          <p:cNvPicPr/>
          <p:nvPr/>
        </p:nvPicPr>
        <p:blipFill>
          <a:blip r:embed="rId1"/>
          <a:stretch/>
        </p:blipFill>
        <p:spPr>
          <a:xfrm>
            <a:off x="228600" y="304920"/>
            <a:ext cx="5181480" cy="4317840"/>
          </a:xfrm>
          <a:prstGeom prst="rect">
            <a:avLst/>
          </a:prstGeom>
          <a:ln w="0">
            <a:noFill/>
          </a:ln>
        </p:spPr>
      </p:pic>
      <p:pic>
        <p:nvPicPr>
          <p:cNvPr id="94" name="" descr="Networking Equipment"/>
          <p:cNvPicPr/>
          <p:nvPr/>
        </p:nvPicPr>
        <p:blipFill>
          <a:blip r:embed="rId2"/>
          <a:stretch/>
        </p:blipFill>
        <p:spPr>
          <a:xfrm>
            <a:off x="5562720" y="2819520"/>
            <a:ext cx="3809880" cy="3809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 Imports from China 2007: $321 Bill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 Exports to China 2007:     $  65 Bill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de Deficit of                       $256 Bill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3" name="" descr=""/>
          <p:cNvPicPr/>
          <p:nvPr/>
        </p:nvPicPr>
        <p:blipFill>
          <a:blip r:embed="rId1"/>
          <a:srcRect l="0" t="0" r="0" b="14999"/>
          <a:stretch/>
        </p:blipFill>
        <p:spPr>
          <a:xfrm>
            <a:off x="152280" y="152280"/>
            <a:ext cx="8382240" cy="5343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9" name="" descr=""/>
          <p:cNvPicPr/>
          <p:nvPr/>
        </p:nvPicPr>
        <p:blipFill>
          <a:blip r:embed="rId1"/>
          <a:stretch/>
        </p:blipFill>
        <p:spPr>
          <a:xfrm>
            <a:off x="228600" y="228600"/>
            <a:ext cx="8915400" cy="4754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na’s economy is growing at 11% annually.</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6 of the world’s 20 most polluted cities are in China.</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ON’T COPY</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Year 1: $100 + 11% growth = $111</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Year 2: $111 + 11% growth = $123.11</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Year 3: $123.11 + 11% growth = $136.6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mperial Palace in Beijing (1368-191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date of Heave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irman Mao of the Communist Par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8" name="" descr="Image:3waterjing'anshi.jpg"/>
          <p:cNvPicPr/>
          <p:nvPr/>
        </p:nvPicPr>
        <p:blipFill>
          <a:blip r:embed="rId1"/>
          <a:stretch/>
        </p:blipFill>
        <p:spPr>
          <a:xfrm>
            <a:off x="1600200" y="228600"/>
            <a:ext cx="4971960" cy="6629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nghai:</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st Chinese Ci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ddhist Temple from 274 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ed US Perfum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 descr=""/>
          <p:cNvPicPr/>
          <p:nvPr/>
        </p:nvPicPr>
        <p:blipFill>
          <a:blip r:embed="rId1"/>
          <a:stretch/>
        </p:blipFill>
        <p:spPr>
          <a:xfrm>
            <a:off x="1238400" y="928800"/>
            <a:ext cx="6667200" cy="5000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reat Wall of Chin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000 miles long (25 feet high, 16 feet wi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gun 220 BCE  made of earth/woo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tored in 1400s with ston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 1 million died working on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8" name="" descr=""/>
          <p:cNvPicPr/>
          <p:nvPr/>
        </p:nvPicPr>
        <p:blipFill>
          <a:blip r:embed="rId1"/>
          <a:srcRect l="0" t="10754" r="0" b="0"/>
          <a:stretch/>
        </p:blipFill>
        <p:spPr>
          <a:xfrm>
            <a:off x="304920" y="457200"/>
            <a:ext cx="8839080" cy="5502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Child Per Family Program in Chin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ral Area families can have 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vented 300 million more birth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3 Billion Peop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io of 116:100 Boys to Gir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30T19:49:02Z</dcterms:created>
  <dc:creator>Karoline</dc:creator>
  <dc:description/>
  <dc:language>en-US</dc:language>
  <cp:lastModifiedBy>Karoline</cp:lastModifiedBy>
  <dcterms:modified xsi:type="dcterms:W3CDTF">2008-03-31T01:15:41Z</dcterms:modified>
  <cp:revision>40</cp:revision>
  <dc:subject/>
  <dc:title>Slide 1</dc:title>
</cp:coreProperties>
</file>